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CC5-2FC7-4F79-AE9B-E22FA648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ECA-9366-48E7-BE24-A122BE6D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64209-76E9-4F9D-9699-831E6939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D2886-750F-46A5-8D93-F52985B8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478A3-1B0E-4958-A4C1-2885DF34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767B3-F4BD-4A94-91E6-38513055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B3916-20C3-49FB-9EF3-97A4704C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F1C9D-6B22-4082-9B01-60EAE307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63268-815F-4126-A8FC-D51EE47D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05ED1-B39D-45DD-9EE5-ACDDA6E9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E58FC-B64E-4778-9755-2D0F4670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8FD5F-E2A3-4426-B85E-7A3DB19D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824-00BE-4186-AF32-7188223C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8F411-BC3C-4428-AF6D-8F1F42D7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8450E-94FA-4164-B4CC-498963F4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EFA57-71F5-4563-ABEF-43440C73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25B0B-8848-4A18-864E-C86E1312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CB47E-082B-4127-A18F-80526A5F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FECFF-18D8-4423-A612-0D3ECF46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F2324-E6D9-4333-8BC7-1877710D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0E2DB-333A-405F-BF39-B9D52DA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C0AD8-10CD-4F9D-B795-D6AD01B9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CF408-580D-4D74-B3CD-7DCFD8CC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6D9-608C-4767-8A4A-151A1A4B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C63A9-5C1E-4EEA-B9C9-0C7DED9F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59EAF-A16D-4C5F-9834-0965FFC1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440A9-1236-4047-92BF-924DAE6B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98CDE-1749-4543-8798-A7AB4E2B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037B9-E51F-4790-A921-579C141F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1B992-BE0F-42C2-9F8E-0DA0DE71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61C0F-4749-44C0-9D03-39D7C694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CDFEA-C249-4432-93C4-E162042F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BAB9E-55C2-402F-BF20-C40760C7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FCDBB-B605-467C-A467-0518F600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D182-731E-486C-B19B-B4A25CC3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34D70-4CDB-4696-8B93-7E02C755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4830F-BCBB-4E41-BBC3-06ED39BB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0B33E-C4CD-4637-9BFD-6AE87FB6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38C6C-3E7E-4C12-99CD-DED9C71A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B43C9-C55E-4CB1-B1BE-D4899F6A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BE45A-8180-438D-9BD0-7BEA43B0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6717F-A133-4051-903C-C58F60E6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E1AA1-F7BB-47D7-88C7-BDDD27B8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55566-2AD3-466B-85B7-D65A20EC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4E3FE-4A4C-4D1B-8F6E-379B2A69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1CD7-B150-49DF-A4B3-0BA1539C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FA3CD-DE28-4892-86A7-B0AD784D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21C2A-2F56-4713-8808-7E826A26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56095-25EF-4A40-8791-EB4C0BCA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42840-EB89-4FBF-878F-5E6DB1F9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662CC-8EBF-4A0D-8C38-BC58070D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AC84E-BC99-47DF-AA02-630C1A9A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ED1D0-CAA4-4BBE-8B7D-1F74D68D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95B6A-13B6-4B1C-81E9-F8670F3F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ACFAA-1FB0-4BB7-B4EE-D953ACA6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ABBC5-3614-4C69-BCA6-7171BC0A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D91C-BFBB-4D68-B3B5-55D1CD95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1C1DD-3FB5-4710-A992-79CF378C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D6BFA-CD38-4B32-9F92-EAB9A2E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D9FA7-3AA6-4F3F-BAB6-6D18F81A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0CD47-6B06-42C7-95BD-FABBC872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B649F-C393-4781-AC28-1B3A8184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83C23-0D20-4B00-98A3-5CB5A672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08010-FFF8-4BDE-8A0B-C491AB5B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2DBE0-77C2-48E3-99A1-07BCBA29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CABA6-6063-4BC2-8C2B-D2883B26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585AE-9EBF-46ED-924D-C48C2E6B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E45E-E0D7-4AFD-A764-B795C83A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F10CD-677B-46CE-8D2D-2C95AB47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795CA-54B1-4329-BDEB-532BC0B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B1400-AE52-4453-9531-76B0AF84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AD847-BB5A-4AA4-A561-420E7C8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63C30-69B8-4B76-9435-D4D05EDD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31F53-08B2-49D2-8E53-0FFBE0C1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E190C-94B2-4A33-B4B9-690A9EBA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A89F4-8C74-4045-8FF5-3EF4C1E1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5355E-B215-422C-AA3C-9E794F3D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FAB6E-4918-4F0E-9606-B19B2454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BD64-FB95-44FE-8FDD-C2B73C60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758AE-088A-4E37-9C60-62DCA56A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4EF48-BE00-4EE9-B168-4C8FC73E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18D78-EE76-4A7B-A059-4123A0A4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40626-461B-4B4C-92F7-B305182F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393DB-EF3C-494E-A7F4-53AFC4AF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1BBBA-59EB-4B47-B940-8C41F10D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28CAF-85F6-423C-9470-D23C6A6D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2F627-58FE-4E6E-BE68-06F876AE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11D3A-2DEE-42E3-A6BB-EE688FC3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D3646-FA41-448A-B580-6D3D97C4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12F0-5384-4463-B5BC-38B19E4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48D99-C51F-48D9-911A-53826319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01D99-E9DF-43D5-89EB-308386BF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83B17-FD0C-43D8-8CFB-D9E64836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5954A-E923-4F86-BBEA-A19B7D73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CE487-618C-47BF-ACFF-2443E2A2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244D5-882F-49D5-A907-C793DA0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06FBA-7A17-49ED-9E0F-F25F4A3A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BF052-B9D6-48F4-AD29-A79E6ADF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9D43C-66CD-411A-91A2-45D62F54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95BB44-46FE-421A-B394-FA4FCA4E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59C4-257B-4B89-BFD1-90471A4D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728575-BD79-476C-A502-AF5E8907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9D145-CEB1-4589-B0EE-84C8CB1A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68518-2513-4EB6-B94D-75FD79A5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C77C3-7E8E-4B6A-BE64-4CE42F7D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4A088-6123-4D7B-9C36-1CD3186C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6B846-F717-42BA-BF85-54004CC8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938E9-325A-4546-8191-5B4899CA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82181-0B34-495A-AA2A-58C17C11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CB789-0FA6-4225-9779-454B9D98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E92AC-5E04-4AD4-AE88-DACF6441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524-C9AC-4D37-9C76-ACCA03A8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208E-280A-4FC0-8910-9E47400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5F777-51AA-4F04-9569-52B08873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4FA1F-20A5-43CF-8DE0-C831498D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D5801-D241-4D95-BFAB-2292E07A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AA3238-0DA1-4179-83C6-48FD5C08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64AFB-1B2C-44FD-A8D8-AADF63FE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7FA73-216B-4106-8666-83886527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5E145E-39B1-4307-BC48-70861C7D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F476B-A611-41E0-BA2F-0B58D15C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199980-A2E4-4569-A6C2-557D9C3A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75E6E8-B110-4923-A858-D58C73BB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D166-52C8-427B-B733-BEF87B1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6C398-881F-4CF8-872E-3B7337C5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067D4-05C2-4E67-BFAA-123D1B42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7110D-1AB8-403E-A7A2-B3544A8E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C8A13A-4EE4-468E-A5CB-6F56F603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8045C-27FA-49A7-BF3D-90CA19D0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A05EE-1C03-4030-B7BC-30CC2079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4430B-A344-477F-9809-1F673C0A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E2D748-98FD-4EED-83F6-071D6EDF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A5EAA-744C-4B44-92FD-09C90E6D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C62FF-BDC7-4D18-8F30-AF3CB287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4EBE-0FEF-49CC-8D27-115E42AA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EAD13-F458-4330-A3A2-62D4E4C4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D91B76-81B3-40FF-92CF-366F54D8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A1965-E3C5-468F-8564-3626C059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27131-415D-4B0C-9526-A4C698A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C53773-2F86-49EF-8C72-CE66B26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6B5CC-47D6-4CD1-A622-2D740B0B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D5E31-1E0B-485A-9E1F-86BA8773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C0920-F9E9-430A-A42F-F75915ED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18007-F247-4E31-BE65-29EFF124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7BFACB-85E4-4EBB-AE6D-5F8C0118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D8C4-ABC9-4BCC-988C-56AFB050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27EDC4-A98D-43F0-A2C3-539E86DC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15F56-80BD-482B-A0F8-337F58AD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05372-F30F-4BF9-A3B3-794060BC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4E2686-E00E-4461-9CDF-A8821601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538A9E-EDD0-4D28-A4EE-864C8D67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75A664-9B5F-43FC-AF42-35E0902F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632909-E5CD-45F7-996E-A3A472BB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A087C-C600-4859-9435-C9471C67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2EF3E-2CC6-4842-84E1-E23861FC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C548CE-F9BF-442A-8761-DE9AF267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E007-9D3B-4BBA-999D-41B58C81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B6C75B-B8FD-4606-A65A-5D5F25AD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535B1-3932-4481-ADAE-54BF6034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432107-EEDD-47C5-97F1-5DBB4E2E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FF3624-9200-4169-851C-3864C80E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AFDA7-957E-42B3-87E6-04FC4490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19847-FF7C-4F4D-A730-B64666E1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BB6E86-5859-4B33-B2AE-5485C34F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54073-78A4-41A2-9568-5F95622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964EC2-92B5-4D42-AAD8-B2D2818F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CAC2A-7DC3-4A46-9895-E6BABCA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965E4-B491-4BB6-852A-A60EE729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0A9E8-5871-4CBF-A498-B3035318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3A69B-1A4E-4419-9B4D-55886A96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ED9-8A29-4E50-BC9B-97B205CC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2D663-162D-4210-8CC5-F231DBC1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8F8B-B3E4-467C-934F-4584F4E5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B5547-283B-49E2-8EFB-A7AEC98B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7CC-2EF9-44E3-9545-27593334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1B25-E82C-410F-B506-E51F9565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86D1-417F-4E55-8A0B-EF93FF75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DF25-2B41-4F53-8741-C8399198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EFC3-BA8D-4FF5-ACF4-108E10D5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5424-744C-4681-88FB-DC89AA50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BF40D-C7CD-4C31-9703-EF730BB7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6E6E-8E68-4356-B6DE-704E794C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C4E0-ABCB-4A77-BEC4-6A83C6FE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53CF-1C0D-482D-B1D1-A5785697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90783-2B76-435C-9234-02205BDD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16F-F964-4316-B40E-DBB524B7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FD784-3E02-4392-B0B2-A5A5C533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9903E-965B-490F-9D9A-73430997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2A1D9-7299-4F5F-9278-682E2715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E602E-A249-4A5E-B3DE-41DDD871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15094-716D-48E2-B1E7-08C7CB30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DFB2A-5531-4475-A933-202B9718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A5837-42CF-4284-B8F6-37B98892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00B28-63C6-4AEF-A866-BB9243CA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071F-F2D1-4CFD-A930-268F8C7D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51D92-05DA-475B-9950-A51ABAE6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D1E-B9C4-480E-BDD2-BF476A7D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FFB3-6478-4CBD-AD52-71D730CE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957F-2844-4F86-921E-400F8836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6D65C-20C1-49D8-9D57-DF21394C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D8869-5060-4C5F-915A-86C3451E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764D0-4BEB-45E1-8C6E-F29605E5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DB4FE-DA7B-4CF6-9EC8-5E09C569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6E71A-044D-4300-B37B-A82DB0FE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4A3F0-7630-479E-BF27-0B58AA16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E6868-4ABF-4576-ABD5-E94365AE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48458-2006-473D-8524-B43756FD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B3C-C1B3-427C-B6E4-94D6DD5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D5790-AB42-4ED4-80E6-AFBB38C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43C4E-32FC-45AC-B14B-D6EC34C6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8B3A-55F7-40B9-ACE5-7B7CAE3E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E95C-6981-4525-A42A-2BC4B149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A1F05-100D-4A44-9196-9E11E694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1BAC-A87A-4D4A-BB53-07AF8242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E04A-3924-4AA5-A6BB-09A82AB5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7F163-12E7-4A15-BE19-27898854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46BB6-6B4D-4845-B535-4551EF06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B57AD-F7F1-448E-8D9D-60CD50C0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968-5AE1-4DDC-AA30-DBA99F1A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DD526-C526-4B83-A6DA-E06CBF6D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E7697-C2B7-4A60-8389-13E3DCE2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35A0E-2808-4C77-B372-6C4B291C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273A6-7FE9-4C34-8369-60742829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21D6F-BF7C-4AC8-A346-4D8DA7F5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91F49-CBA0-4840-B584-78A879DC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830D9-1431-46D8-8021-D08735CA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84FB6-3B7F-48B2-91E1-D8F093CE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4FF37-727F-4D4A-94C8-C9BA96BA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66CE5-7902-485B-A63E-C973E372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96E-0732-48F0-956B-3A0811C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C994D-A379-441C-9F39-8CBA6BB7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A989D-45D3-4D72-80F3-568AA05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60554-6D0C-4F09-BD10-A148835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BF270-26B6-45AD-8EDE-45CB2CBC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1EB16-351F-46B7-BDAE-51C24ECE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EE23A-1BB7-4B14-A63A-FA79927A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04085-5847-4FDA-8D43-B19A0108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77C5B-7B52-4A15-9D79-D9ADB67A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355AD-5E7D-4E14-BB59-8F3FD4E7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BAE3C-3102-4522-92A6-3FCFC29E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E85C-79D1-44B6-AB52-60B87239D2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38B0-CF80-4A11-9D39-88829BC8D1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D11F-C7DE-4766-8C5C-C57AFC2D9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CAF8-BEDB-47A9-B9B9-EF69EB3C9A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8DDA-8EC5-4BE0-9E94-62C0306D8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3269-E37B-476B-BAF7-CEC7CBA1E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D8C8-E4BC-434C-897E-C0F2885D66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000A-F21C-497F-8733-B2C6F3C5F5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C46F-C152-4AF3-9290-A9113558EF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EFF0-C1E3-4AC7-9E89-E362A57D12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E1AD-278F-480D-8B61-AF8878100F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BAEC-8DA9-404D-9BD2-3A02D80F7B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15F2-CF84-40E7-89F0-0CD0B9AA4C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4DD-3013-490D-A877-15E8A93151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47C8-33C1-4A49-8EE2-10A84EEAAE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F666-03EC-4DAB-8BD1-A410454EB0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269E-B445-40FF-9988-0A44A108F0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A989-EECF-402B-8D2F-9BF868D23E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1D40-6443-4BD6-89CD-FFDA9FF55B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DA4E-8E58-46A1-A490-1424DE6758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917B-227E-4148-828A-1332D0C1B4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460D-C8F8-47CA-83A9-BB969EBF31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58D2-B5D3-40BF-A8DC-93203C38C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3BD3-2165-4432-B28D-B634A814F9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CDAA-A89A-456D-A31D-8CD27BCCDD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EC8E-F1A4-4D26-A137-CBBC609A97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2D20-7A66-4E9D-918B-8399AA185C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9AAB-ACDC-421A-8CEE-8A12CA0FF0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B099-CC18-42D2-9E71-E97A0D8434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1837-9920-4EA9-B4FA-6A3B5C12AD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FABA-587B-4857-857D-1CDDEC69E0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F786-ABEC-46AB-9D59-B2027769DB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10A9-799B-4710-B88E-7BBAFB5FC9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777F-9146-4338-AF7E-099DE13A3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7E46-7DE4-450B-99B6-F26F6A066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E201-62F4-4306-841E-E0F225ED44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A58A-1DA3-4D73-8658-75BD6CE507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80F4-A0A7-4FA6-8A14-4BAA3ABE7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D1B9-EAF1-4BAA-9BEA-E1FF85E349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1347840" y="2981160"/>
            <a:ext cx="6448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22529" descr=""/>
          <p:cNvPicPr/>
          <p:nvPr/>
        </p:nvPicPr>
        <p:blipFill>
          <a:blip r:embed="rId1"/>
          <a:stretch/>
        </p:blipFill>
        <p:spPr>
          <a:xfrm>
            <a:off x="452520" y="844560"/>
            <a:ext cx="8238960" cy="57531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476360" y="2708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1547640" y="35290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1547640" y="5300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1547640" y="61070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图片 21505" descr=""/>
          <p:cNvPicPr/>
          <p:nvPr/>
        </p:nvPicPr>
        <p:blipFill>
          <a:blip r:embed="rId1"/>
          <a:stretch/>
        </p:blipFill>
        <p:spPr>
          <a:xfrm>
            <a:off x="133200" y="1090440"/>
            <a:ext cx="8877600" cy="4677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979640" y="52434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4572000" y="5229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7236000" y="52434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20481" descr=""/>
          <p:cNvPicPr/>
          <p:nvPr/>
        </p:nvPicPr>
        <p:blipFill>
          <a:blip r:embed="rId1"/>
          <a:stretch/>
        </p:blipFill>
        <p:spPr>
          <a:xfrm>
            <a:off x="1933560" y="1990800"/>
            <a:ext cx="5276880" cy="2876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3132000" y="4292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5738760" y="4292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3" name="组合 8195"/>
          <p:cNvGrpSpPr/>
          <p:nvPr/>
        </p:nvGrpSpPr>
        <p:grpSpPr>
          <a:xfrm>
            <a:off x="104760" y="115920"/>
            <a:ext cx="8934480" cy="6481800"/>
            <a:chOff x="104760" y="115920"/>
            <a:chExt cx="8934480" cy="6481800"/>
          </a:xfrm>
        </p:grpSpPr>
        <p:pic>
          <p:nvPicPr>
            <p:cNvPr id="1044" name="图片 8193" descr=""/>
            <p:cNvPicPr/>
            <p:nvPr/>
          </p:nvPicPr>
          <p:blipFill>
            <a:blip r:embed="rId1"/>
            <a:stretch/>
          </p:blipFill>
          <p:spPr>
            <a:xfrm>
              <a:off x="104760" y="115920"/>
              <a:ext cx="8934480" cy="577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图片 8194" descr=""/>
            <p:cNvPicPr/>
            <p:nvPr/>
          </p:nvPicPr>
          <p:blipFill>
            <a:blip r:embed="rId2"/>
            <a:stretch/>
          </p:blipFill>
          <p:spPr>
            <a:xfrm>
              <a:off x="1913040" y="6054840"/>
              <a:ext cx="3019320" cy="54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116000" y="4508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1116000" y="5373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1116000" y="1125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7"/>
          <a:stretch/>
        </p:blipFill>
        <p:spPr>
          <a:xfrm>
            <a:off x="1187280" y="2852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9217" descr=""/>
          <p:cNvPicPr/>
          <p:nvPr/>
        </p:nvPicPr>
        <p:blipFill>
          <a:blip r:embed="rId1"/>
          <a:stretch/>
        </p:blipFill>
        <p:spPr>
          <a:xfrm>
            <a:off x="576360" y="1352520"/>
            <a:ext cx="7991280" cy="4152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692360" y="41497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0241" descr=""/>
          <p:cNvPicPr/>
          <p:nvPr/>
        </p:nvPicPr>
        <p:blipFill>
          <a:blip r:embed="rId1"/>
          <a:stretch/>
        </p:blipFill>
        <p:spPr>
          <a:xfrm>
            <a:off x="1357200" y="1014480"/>
            <a:ext cx="6429600" cy="48290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1692360" y="3645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2289" descr=""/>
          <p:cNvPicPr/>
          <p:nvPr/>
        </p:nvPicPr>
        <p:blipFill>
          <a:blip r:embed="rId1"/>
          <a:stretch/>
        </p:blipFill>
        <p:spPr>
          <a:xfrm>
            <a:off x="1609560" y="2257560"/>
            <a:ext cx="5924880" cy="23428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2050920" y="2276640"/>
            <a:ext cx="50508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9:26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